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.gif" ContentType="image/gif"/>
  <Override PartName="/ppt/media/image9.jpeg" ContentType="image/jpeg"/>
  <Override PartName="/ppt/media/image11.jpeg" ContentType="image/jpeg"/>
  <Override PartName="/ppt/media/image13.jpeg" ContentType="image/jpeg"/>
  <Override PartName="/ppt/media/image5.gif" ContentType="image/gif"/>
  <Override PartName="/ppt/media/image6.jpeg" ContentType="image/jpeg"/>
  <Override PartName="/ppt/media/image21.wmf" ContentType="image/x-wmf"/>
  <Override PartName="/ppt/media/image19.jpeg" ContentType="image/jpeg"/>
  <Override PartName="/ppt/media/image20.jpeg" ContentType="image/jpeg"/>
  <Override PartName="/ppt/media/image15.jpeg" ContentType="image/jpeg"/>
  <Override PartName="/ppt/media/image18.wmf" ContentType="image/x-wmf"/>
  <Override PartName="/ppt/media/image17.gif" ContentType="image/gif"/>
  <Override PartName="/ppt/media/image16.jpeg" ContentType="image/jpeg"/>
  <Override PartName="/ppt/media/image7.jpeg" ContentType="image/jpeg"/>
  <Override PartName="/ppt/media/image12.jpeg" ContentType="image/jpeg"/>
  <Override PartName="/ppt/media/image14.wmf" ContentType="image/x-wmf"/>
  <Override PartName="/ppt/media/image3.gif" ContentType="image/gif"/>
  <Override PartName="/ppt/media/image1.jpeg" ContentType="image/jpe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3386-CFC2-4672-8C42-B28F7F773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1EFD-4EB6-4CF9-B3FC-B068E86B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7D23-AA03-46C4-B4F4-96266072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D7B7-A85A-4F24-BDFA-57D30FB5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12BB-A0D3-4AB9-8D04-2DA0F92E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D35A-567E-4918-8BB1-C27CFA3A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E44E-DE7A-40BF-8C97-804F479E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A83D-9765-4348-AE26-94943C4C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7672-C4A9-4EBE-AADA-BDC5A4DC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4046-E8C4-44F6-970C-0FF18E4B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A077-B338-4FF6-B8A1-9A4DFF2F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C49D-4279-4E8C-A4A6-4C31C3FE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80E5-2B85-4C94-BE3C-93F5CFC94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Looking back down the trail on the way to Baldy Mtn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flipH="1" rot="20258400">
            <a:off x="6400440" y="4800240"/>
            <a:ext cx="1828800" cy="1108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257800" y="4800600"/>
            <a:ext cx="1828800" cy="1393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 flipH="1" rot="61800">
            <a:off x="4494960" y="4800600"/>
            <a:ext cx="182880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581280" y="4343400"/>
            <a:ext cx="1710000" cy="1752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17220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905120" y="304920"/>
            <a:ext cx="53816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2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80808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Impact"/>
              </a:rPr>
              <a:t>Come Play In The Dir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808080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5105520"/>
            <a:ext cx="914400" cy="609480"/>
          </a:xfrm>
          <a:prstGeom prst="cloudCallout">
            <a:avLst>
              <a:gd name="adj1" fmla="val -43750"/>
              <a:gd name="adj2" fmla="val 70050"/>
            </a:avLst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5257800"/>
            <a:ext cx="914400" cy="609480"/>
          </a:xfrm>
          <a:prstGeom prst="cloudCallout">
            <a:avLst>
              <a:gd name="adj1" fmla="val -43750"/>
              <a:gd name="adj2" fmla="val 70050"/>
            </a:avLst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4800600"/>
            <a:ext cx="914400" cy="609480"/>
          </a:xfrm>
          <a:prstGeom prst="cloudCallout">
            <a:avLst>
              <a:gd name="adj1" fmla="val -43750"/>
              <a:gd name="adj2" fmla="val 70050"/>
            </a:avLst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4800600"/>
            <a:ext cx="914400" cy="609480"/>
          </a:xfrm>
          <a:prstGeom prst="cloudCallout">
            <a:avLst>
              <a:gd name="adj1" fmla="val -43750"/>
              <a:gd name="adj2" fmla="val 70050"/>
            </a:avLst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33720" y="5562720"/>
            <a:ext cx="914400" cy="609480"/>
          </a:xfrm>
          <a:prstGeom prst="cloudCallout">
            <a:avLst>
              <a:gd name="adj1" fmla="val -43750"/>
              <a:gd name="adj2" fmla="val 70050"/>
            </a:avLst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5486400"/>
            <a:ext cx="914400" cy="609480"/>
          </a:xfrm>
          <a:prstGeom prst="cloudCallout">
            <a:avLst>
              <a:gd name="adj1" fmla="val -43750"/>
              <a:gd name="adj2" fmla="val 70050"/>
            </a:avLst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5867280"/>
            <a:ext cx="914400" cy="609840"/>
          </a:xfrm>
          <a:prstGeom prst="cloudCallout">
            <a:avLst>
              <a:gd name="adj1" fmla="val -43750"/>
              <a:gd name="adj2" fmla="val 70050"/>
            </a:avLst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5867280"/>
            <a:ext cx="914400" cy="609840"/>
          </a:xfrm>
          <a:prstGeom prst="cloudCallout">
            <a:avLst>
              <a:gd name="adj1" fmla="val -43750"/>
              <a:gd name="adj2" fmla="val 70050"/>
            </a:avLst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5638680"/>
            <a:ext cx="914400" cy="609840"/>
          </a:xfrm>
          <a:prstGeom prst="cloudCallout">
            <a:avLst>
              <a:gd name="adj1" fmla="val -43750"/>
              <a:gd name="adj2" fmla="val 70050"/>
            </a:avLst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938320" y="2781360"/>
            <a:ext cx="3267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6633"/>
                    </a:gs>
                    <a:gs pos="100000">
                      <a:srgbClr val="663300"/>
                    </a:gs>
                  </a:gsLst>
                  <a:lin ang="5400000"/>
                </a:gradFill>
                <a:latin typeface="Arial Black"/>
              </a:rPr>
              <a:t>ride the new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6633"/>
                  </a:gs>
                  <a:gs pos="100000">
                    <a:srgbClr val="6633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6633"/>
                    </a:gs>
                    <a:gs pos="100000">
                      <a:srgbClr val="663300"/>
                    </a:gs>
                  </a:gsLst>
                  <a:lin ang="5400000"/>
                </a:gradFill>
                <a:latin typeface="Arial Black"/>
              </a:rPr>
              <a:t>25-mi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6633"/>
                  </a:gs>
                  <a:gs pos="100000">
                    <a:srgbClr val="6633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533520" y="2895480"/>
            <a:ext cx="5562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Impact"/>
              </a:rPr>
              <a:t>Open from 6 am - 10 pm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3179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828800" y="18288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ke your fami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0" y="3736800"/>
            <a:ext cx="208116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638680" y="1371600"/>
            <a:ext cx="3505320" cy="3211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0" y="3486240"/>
            <a:ext cx="4724280" cy="33717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to all bi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t b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ntain b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8367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ra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3848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mp and h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295280" y="4038480"/>
            <a:ext cx="857520" cy="952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 rot="3211200">
            <a:off x="1927800" y="3634200"/>
            <a:ext cx="201600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02040" cy="2600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33520" y="2971800"/>
            <a:ext cx="2819160" cy="18302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2362320" y="3276720"/>
            <a:ext cx="65815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996633"/>
                    </a:gs>
                  </a:gsLst>
                  <a:lin ang="5400000"/>
                </a:gradFill>
                <a:latin typeface="Impact"/>
              </a:rPr>
              <a:t>Come And Have  A Good Tim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996633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5:40:56Z</dcterms:created>
  <dc:creator>766935</dc:creator>
  <dc:description/>
  <dc:language>en-US</dc:language>
  <cp:lastModifiedBy>766935</cp:lastModifiedBy>
  <dcterms:modified xsi:type="dcterms:W3CDTF">2009-03-30T15:55:14Z</dcterms:modified>
  <cp:revision>5</cp:revision>
  <dc:subject/>
  <dc:title>Slide 1</dc:title>
</cp:coreProperties>
</file>